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FC6-4EC2-4D90-8376-D881AC37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78E-11F6-49FA-B48C-137CA350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529-64B6-4275-8794-4D038D8C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2F4-9EA1-49E3-AA3D-19B1E41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CEC-160D-4773-A063-53744661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803-3C7C-4673-940C-317ED0D0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9565-7CC9-401E-8ED5-BD28AAC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9F8-0E89-4CFF-A0B4-9901147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0F8-112C-4B61-90EF-3EA18CFA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4A20-F502-473C-855A-6E78458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4A7-552C-4138-866E-78A228BC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E89-D47A-4D8B-876A-0C5B4D14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C549-2C4F-4916-B98B-1E0622F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E28E-17E0-4237-B8B9-AC327A5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963-261E-4813-A709-12A2624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36BA-381C-4C22-8667-4B02E712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347-69A8-4B0A-8D6D-8794B62E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E46-2003-47CA-8866-50A71FB3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08E-D39F-45A9-8E39-0C4DC02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86E-7CCC-43B2-85CA-4931D7B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11B-58B8-402F-AF95-C6E8034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F46-5E13-41CA-BDD1-AEFA9F1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A97-B2E5-4580-83CC-08FC477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AA9-86A9-4B46-AA44-E8FEF22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83D3-1847-4E5A-9DF5-BD5DF79840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AAE6-BEDB-4801-8B92-9BEE27FE80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pd.ucf.edu/newsletter/industrial.jpg&amp;imgrefurl=http://www.forpd.ucf.edu/newsletter/FLN200610.html&amp;h=757&amp;w=1045&amp;sz=120&amp;hl=en&amp;start=9&amp;um=1&amp;tbnid=DMBcEt14dFn68M:&amp;tbnh=109&amp;tbnw=150&amp;prev=/images%3Fq%3DIndustrial%2BRevolution%26svnum%3D10%26um%3D1%26hl%3Den%26rls%3DADBS,ADBS:2007-25,ADBS: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dustry.siemens.com/hsm4mittal/images/8432_sic_automation_system.jpg&amp;imgrefurl=http://www.industry.siemens.com/hsm4mittal/Technologies/Basic_Automation_System.htm&amp;h=417&amp;w=390&amp;sz=39&amp;hl=en&amp;start=3&amp;um=1&amp;tbnid=xv5GpIGnFs8UMM:&amp;tbnh=125&amp;tbnw=117&amp;prev=/images%3Fq%3DAutomation%26svnum%3D10%26um%3D1%26hl%3Den%26rls%3DADBS,ADBS:2007-25,ADBS:e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8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king of Industrial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EA3-533B-4E17-AE26-E822E5D59867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Unexpected Costs of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nesis of an environmental catastroph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llectual origins of human domination over natural re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foreseen toxins, occupational haza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 i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ndless proletari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grating work fo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919-A9F9-492C-A4C8-D93BA87BA8E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Genesis of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eat Britain, 178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llowed agricultural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od surpl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sable inco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incre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bor suppl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6AE-B70D-4DF0-BFB9-079EE330B40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ritish Advantag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ong banking tradi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al, iron o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se of transpor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ze of coun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iver and canal syst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orts to imperial colon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p. machine text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A33-7492-4742-B761-7055FA36D79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tton-producing Technolog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ying shuttle doubled weaving outpu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ithout doubling supply of ya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inning jenny (176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creased supply of yarn, faster than flying shuttle could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wer loom (1787) met supply of yar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58588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4D3-8705-4DC1-9923-0F79D640D50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owth of Factor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ssive machin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pply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nsport of raw materials, finished product to mark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centration in newly built factory towns on riv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745-DA3A-45D2-8906-AB88A6722BD3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w Sources of Pow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3120" y="1600200"/>
          <a:ext cx="38066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600200"/>
                    <a:ext cx="38066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eam Engin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ames Watt (1736-1819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fir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pplied to rotary engine, multiple appli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60:  2.5 million pounds of raw cotton impor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87: 22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40: 360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414-0DFA-4BB1-8FC3-F3120508FD0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mplications: Slave Labo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eap cotton from American so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efit of transatlantic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rony: early British abolitionism, yet profit motive retain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12444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7F5-21D0-429A-8DAE-C99B54975BF0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ron Indust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y Cort devises method of refining iron ore (1780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rst major advance since middle 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52 produces more high-quality iron than rest of world combin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ynergy with increasing technological develop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74F-D751-42A9-AAEF-D9C20458CA4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ail Transpor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04 first steam-powered locomot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acity: Ten tons + 70 passengers @ 5 m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ocke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rom Liverpool to Manchester (1830), 16 m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pple effect on industrializ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gineering and architec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CF3-747B-4C90-829A-FFC8A6ED3D9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actory Syste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rly modern Europe adopts “putting-out”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s work at home, employers avoid wage restrictions of medieval guil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sing prices cause factories to replace both guilds and putting-ou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chines too large, expensive for home 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rge buildings could house specialized labor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rbanization guarantees supply of cheap unskilled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37B-6AB5-4929-B669-F51F29E3B765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 u="sng">
                <a:solidFill>
                  <a:srgbClr val="ffffff"/>
                </a:solidFill>
                <a:uFillTx/>
                <a:latin typeface="Garamond"/>
              </a:rPr>
              <a:t>The Industrial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549-1B8F-4E73-8B05-853C40929F5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or working condi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ramatic shift from rural work rhyth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 days a week, fourteen hours a da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mediate supervision, punish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uddite” Protest against machines 1811-181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ame from legend about boy named Ludlam who broke a knitting 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ader called “King Lud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sked Luddites destroy machinery, enjoyed popular suppo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4 Luddites hung in 1813, movement dies ou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4BE-EBFB-4C52-8EA1-2ACA7A8E8F4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Labour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organized strikes to protest work condition and wag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Unions were illegal until the latter part of the 19th centur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The actions of workers almost always led to violen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124080" cy="27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181-2BD6-4C5E-B27F-7EDE6563FE83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pread of Industrial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ment of technical schools for engineers, architects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vernment support for large public works projects (canals, rail syste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reads throughout Germany under Bismar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085-DE4E-4310-8C7D-F3BECED98AB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ustrial Europe ca. 185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B5C-80CB-4FC0-8B49-FEF1ED24409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ss Produc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li Whitney (U.S., 1765-1825) invents cotton gin (1793), also technique of using machine tools to make interchangeable parts for firear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American system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plied to wide variety of machi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y Ford, 1913, develops assembly line approa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plete automobile chassis every 93 min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eviously: 728 min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CFC-83F4-49C9-A497-992AAAF52F2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Industrialization in the United State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00 US agrari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5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city larger than 10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6/7 Americans farm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60 US industrializ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30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ine cities 100K 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½ Americans farm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734-A5ED-45D9-BD18-C7BAA3F64BB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actory Discipline (Berlin, 1844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day: 6 am to 7 p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ours total for me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teness: 2 minutes fined ½ hour pay, more than 2 minutes partial shi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versation prohibi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of toilets manda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1CC-A2D7-4F93-BF47-FF5A6ECE5887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Proletari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ck of clear distinction from cottage indust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logically disastrous con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al mi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ve-i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plos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llut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6A4-1AAB-4D1F-A036-1D2A6526EFC8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istribution of Wealth in the U.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72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192-992E-4998-B9D7-F870E2465B7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Industrial Middle Cla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lass, evolved from guild merchants in c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urgeoisie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itali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gin to eclipse power and status of agrarian landed clas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490-EFC0-4523-BEB6-724C9708AC62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Garamond"/>
              </a:rPr>
              <a:t>Agricultural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Times New Roman"/>
              </a:rPr>
              <a:t>Think/Pair/Sha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Question:  What were key points concerning the Agricultural Revolutio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hy was Britain firs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hat were the Enclosure Acts and why were they significan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30920" y="4343400"/>
            <a:ext cx="199080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2AA-A330-4E9C-A5FA-24393EF0769D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ig Busin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factories require start-up capi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rporations formed to share risk, maximize profi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ain and France lay foundations for modern corporation, 1850-186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vate business owned by hundreds, thousands or even millions of stockhol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vestors get dividends if profitable, lose only investments in case of bankrupt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FD0-2E01-4AFB-A980-E1AB1AD7486F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onopolies, Trusts, and Cartel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corporations form blocs to drive out competition, keep prices hig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n D. Rockefeller controls almost all oil drilling, processing, refining, marketing in U.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rman IG Farben controls 90% of chemical pro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vernments often slow to control monopol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506-2D1C-482B-87FF-7816A87BF5B2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ruits of Industrial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chnological innov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proved agricultural too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eap manufactur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pecially text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vel and transpor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31D-95A0-4B17-B172-4544C0A713D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 (million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98B-2B23-4F8C-9855-922FD815095F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emographic Transi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ustrialization results in marked decline of both fertility and morta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sts of living increase in industrial socie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ization proceeds dramatical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0: only 20% of Britons live in towns with population over 1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900: 75% of Britons live in urban environ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F8D-D9D6-420B-8C97-C96AEFABB2D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tracep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cient and medieval method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gypt: crocodile dung deposi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ia: oral contraceptives (mercury, arseni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sewhere: beeswax, oil paper diaphrag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omas Malthus (1766-1834) predicts overpopulation crisis, advocates “moral restraint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doms invented in Eng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de from animal intestines in 1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, latex in 1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F58-3C77-4524-B6B3-82EA2929E429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velopment of Slum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ndon: 1 million in 1800, 2.4 million in 185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ealthy classes move out to subur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ustrial slum areas develop in city cen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pen gutters as sewage syst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ger of Chol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rst sewage systems, piped water only in 184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892-FA63-4CD1-BF17-39EAD95DB104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ranscontinental Migr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early 2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ies, rapid population growth drives Europeans to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0 million cross Atlan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ons to avoid urban slums, Irish to avoid potato famines of 1840s, Jews to abandon Tsarist persecu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ted States favored destin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B2C-E21E-47C4-8340-D01E0721CB19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w Social Class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nomic factors result in decline of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italist wealth brings new status to non-aristocratic famil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urban classes of profession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lue-collar factory work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 environment also creates new types of diver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orting ev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79A-C117-45AE-A0AC-49CE710E2AC9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omen in the Workfor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gricultural, cottage industry work involved women: natural trans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development of men as prime breadwinners, women in private sphere, working cheap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uble burden: women expected to maintain home as well as work in indus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ted to child labor: lack of day care facil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306-42AD-4E17-836A-BDB2D122522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6631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ree Stages of the Industrial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chanization - 1750 - 1920 - Introduction of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2) Mass Production - 1920 - Ordering of machines.  Goods moved on an assembly line.  Henry Ford got credit for this method of production that increases quantity and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3) Automation - replacing workers with machines, they tried to get rid of people completely to increase quality.  The use of robots and computer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) De-industrialization - not sure if this stage ex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748-03CD-4F4D-9F27-30B236874334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ld Labo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sily exploi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wages: 1/6 to 1/3 of adult male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iscip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dvantages of siz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l tu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thering loose cotton under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tton industry, 1838: children 29% of workfo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ctory Act of 1833: 9 years minimum working 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2361960" cy="143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08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D31-9BF4-4819-B2AF-81C46FB88882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AC9-B43A-487E-9522-6DB36E5522C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Reaction to the Industrial Revolution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Gov't Investigation and Law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Factory Act 1833 - limited the hours and ages of worker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Coal Mines Regulation Act 1842 - banned the use of women and childre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(Britain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B03-17E4-4BDF-BFE3-766DECE96C8D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ocialist Challeng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ism first used in context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topian Socialist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harles Fourier (1772-1837) and Robert Owen (1771-185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pposed competition of marke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mpted to create small model commun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pirational for larger social uni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D8B-D28D-4B92-9FD9-93226E0DCEF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The Chartists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wanted to create a charter to protect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Universal suffrage for all m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Guarantee of certain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Paid politicians: means an average person who is committed would become a politician because by being paid they could surviv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922-2BF7-4DC7-B39C-6482C7D9614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9900"/>
                </a:solidFill>
                <a:uFillTx/>
                <a:latin typeface="Times New Roman"/>
              </a:rPr>
              <a:t>Utopian Philosop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Times New Roman"/>
              </a:rPr>
              <a:t>Louis Blanc - idolized the socialist sta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Times New Roman"/>
              </a:rPr>
              <a:t>Robert Owen - New Lanark/New Harmon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467080" cy="275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211428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7B6-2646-4153-8036-EBD3B1A3E488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Karl Marx (1818-1883) and Friedrich Engels (1820-1895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wo major class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pitalists, who control means of pro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letariat, wageworkers who sell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oitative nature of capitalis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igion: “opiate of the mass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gued for an overthrow of capitalists in favor of a “dictatorship of the proletariat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0676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90504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16B-9395-4F7F-90CD-1DE25006BA6F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Reform and Trade Un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ism had major impact on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 refor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duced property requirements for male suffr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ddressed issues of medical insurance, unemployment compensation, retirement benef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de unions form for collective bargai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rikes to address workers’ concer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86C-F2EC-4076-9468-64CFE259B85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ustrialization in Russia and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lower starts on industrial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ssia constructs huge railway network across Siberia under finance minister Count Sergei Witt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apanese government takes initiative by hiring thousands of foreign expe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forms iron indus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pens universities, specializing in science and technolo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D2C-6DE1-46B2-8BEF-76283BC631E7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lobal Ramific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lobal division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ural societies that produce raw materi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rban societies that produce manufactured go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even economic develop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ing export dependencies of Latin America, sub-Saharan Africa, south and south-east As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w wages, small domestic marke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C57-8956-4423-B8A1-BE46A0E0023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chanization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4952880" cy="35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496-2DE8-4887-9946-4713BF15E1F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60093"/>
                </a:solidFill>
                <a:latin typeface="Garamond"/>
              </a:rPr>
              <a:t>Mass Produc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381880" cy="25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705120" cy="256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43480" cy="28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374-8D24-48F2-A5A3-05BEA5C7CB3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Garamond"/>
              </a:rPr>
              <a:t>Autom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990720"/>
            <a:ext cx="2054160" cy="21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434340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230-4D0E-48C0-AC64-8F51E2CC449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ergy: coal and steam replace wind, water, human and animal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ganization: factories over cottage indust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ral agriculture declines, urban manufacturing increa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nsportation: trains, automobiles replace animals, water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C24-B57D-42C0-8B89-644DA041C26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Creation of New Classe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Industrial Middle Cla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 Proletari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ift in political 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piration for new political systems, esp. Marx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D9F-F8A7-4B33-989E-A9A71923723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5:32:56Z</dcterms:created>
  <dc:creator>Henry Abramson</dc:creator>
  <dc:description/>
  <dc:language>en-US</dc:language>
  <cp:lastModifiedBy>ripkensa</cp:lastModifiedBy>
  <dcterms:modified xsi:type="dcterms:W3CDTF">2010-02-08T16:10:06Z</dcterms:modified>
  <cp:revision>9</cp:revision>
  <dc:subject/>
  <dc:title>Chapter 30</dc:title>
</cp:coreProperties>
</file>